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2AFA-102D-424C-9BC4-C8035C6ED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E75-440F-4D06-AC64-019BB391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AB8E-E823-44BF-9BEF-0A7D21B64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isnswlanguages.wikispaces.com/" TargetMode="External"/><Relationship Id="rId2" Type="http://schemas.openxmlformats.org/officeDocument/2006/relationships/hyperlink" Target="http://www.aisnsw.edu.au/Services/PL/LanguagesSecondary/Pages/Promoting%20Languages.aspx" TargetMode="External"/><Relationship Id="rId3" Type="http://schemas.openxmlformats.org/officeDocument/2006/relationships/hyperlink" Target="http://research.acer.edu.au/cgi/viewcontent.cgi?article=1007&amp;context=aer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isnsw.edu.au/Services/PL/LanguagesSecondary/pages/default.asp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oose Me! Day 2: 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Stages 4 an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1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Key concepts from Day 1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challenge, raise th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an engaging, suppor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te programs, lessons,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gram cre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early articulated program 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grate across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oughtful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ring of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oose me material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http://aisnswlanguages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nguage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2"/>
              </a:rPr>
              <a:t>http://www.aisnsw.edu.au/Services/PL/LanguagesSecondary/Pages/Promoting%20Language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Languages and Australian Schooling – Joseph Lo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3"/>
              </a:rPr>
              <a:t>http://research.acer.edu.au/cgi/viewcontent.cgi?article=1007&amp;context=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-316080"/>
            <a:ext cx="74883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87280" y="475920"/>
            <a:ext cx="7491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Guardian – UK Teachers’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theguardian.com/teacher-network/series/language-learning-in-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ring of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tinyurl.com/choosemeday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languagesAIS@studentnet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Learn another language.wmv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048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ounded Rectangle 3"/>
          <p:cNvSpPr/>
          <p:nvPr/>
        </p:nvSpPr>
        <p:spPr>
          <a:xfrm>
            <a:off x="1332000" y="1341360"/>
            <a:ext cx="7272360" cy="4391280"/>
          </a:xfrm>
          <a:prstGeom prst="roundRect">
            <a:avLst>
              <a:gd name="adj" fmla="val 16667"/>
            </a:avLst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Aims of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87280" y="1699920"/>
            <a:ext cx="7491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share strategies that you have implemented i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discuss plans/ideas that could be put in place fo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"/>
          <p:cNvSpPr/>
          <p:nvPr/>
        </p:nvSpPr>
        <p:spPr>
          <a:xfrm>
            <a:off x="1908000" y="2637000"/>
            <a:ext cx="6264360" cy="237636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oday will be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day of sharing of ideas focussing on how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ngag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alleng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ifferentiate for ou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mot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1: QR cod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ca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, scan the codes with iPad/i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here do they l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reate QR code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qrstuff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engage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differentia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promote Language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2: Resource repositories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plore Scoo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scootle.edu.au/ec/p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to make a Scootle Learning path sheet in your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plore TES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tesaustralia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3: Game-based learning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principles of GBL be used in language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ing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wards/bonus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y Sim on a stick (folder on desk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ch student MLTA film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youtube.com/watch?v=JQ4a5T3TZ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4: Creating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vi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ew student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youtube.com/watch?v=w9qBqyggX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uld moviemaking be  a valid assessment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ow could you embed it as part of your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lor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orybirds http://storybird.com/crea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houghtful and sustainable  Language promo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s to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iversity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newsletter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s we are using in languages this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ent reviews of apps/websit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s to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Comic Sans MS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48428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332000" y="2153520"/>
            <a:ext cx="7812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Login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AISGuestw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Password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jakom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Open browser, input details and select NO when prompted to save password. LOG OFF when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Wireless connec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Languages update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980640"/>
            <a:ext cx="7491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according to AC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talian and Chinese curriculum being revised based on feedback from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urriculum is being streamlined - 2 str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ommunic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Less sub-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hinese and Italian to be approved by Minister earl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Other languages to be revised in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mplementation for NSW?? (This decision rests with NSW minister andB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549360"/>
            <a:ext cx="7491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2. Languages in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BoS has undertaken a review of Languages Education Policy in NS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Content Placeholder 3" descr="C:\Users\Merryl\AppData\Local\Microsoft\Windows\Temporary Internet Files\Content.Outlook\MG62KL5E\photo.JPG"/>
          <p:cNvPicPr/>
          <p:nvPr/>
        </p:nvPicPr>
        <p:blipFill>
          <a:blip r:embed="rId1"/>
          <a:stretch/>
        </p:blipFill>
        <p:spPr>
          <a:xfrm>
            <a:off x="2268360" y="2276640"/>
            <a:ext cx="4386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547640" y="765000"/>
            <a:ext cx="6120000" cy="85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king views on six proposals “for a broader, more inclusive languages education for all NSW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SW Languages Policy will be developed and released during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period - 9.10.13 – 13.1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line survey – Bo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8 consultation brief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New prescribed Extension texts for 2014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resources developed by DEC and AIS on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Comic Sans MS"/>
                <a:hlinkClick r:id="rId1"/>
              </a:rPr>
              <a:t>http://www.aisnsw.edu.au/Services/PL/LanguagesSecondary/pages/default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workshops- 2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&amp;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-11592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333360"/>
            <a:ext cx="7491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. Upcoming Professional Learn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TAN AGM - 1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workshops -2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&amp;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 2013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eachMeet</a:t>
            </a:r>
            <a:r>
              <a:rPr b="0" i="1" lang="en-AU" sz="2400" spc="-1" strike="noStrike">
                <a:solidFill>
                  <a:srgbClr val="000000"/>
                </a:solidFill>
                <a:latin typeface="Comic Sans MS"/>
              </a:rPr>
              <a:t>French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p your life! -1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November, Alliance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anguages Review Webinar – November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LTA Conference – 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rch,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apanese Symposium – 10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11th July, 2014, 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3"/>
          <p:cNvSpPr/>
          <p:nvPr/>
        </p:nvSpPr>
        <p:spPr>
          <a:xfrm>
            <a:off x="1403280" y="1628640"/>
            <a:ext cx="7129440" cy="388800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cus on motivating student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inue with languages beyond 100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Arial"/>
              </a:rPr>
              <a:t>Choose Me!- Day 2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3-10-13T20:57:51Z</dcterms:modified>
  <cp:revision>186</cp:revision>
  <dc:subject/>
  <dc:title>Slide 1</dc:title>
</cp:coreProperties>
</file>